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4269-B695-4FB7-9EF5-08AAA559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B32-AD58-4A45-B8C3-A2AB1B7B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FBF-55B9-46CF-B412-7686F51C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D1F-E892-4597-9EBF-CBA71C2E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4A3-1AEE-46CD-B333-0A45EA5E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9D5-2009-4316-937A-2301EF08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7CB-DDA1-46DA-990C-06699A7C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6D1-D1C0-43CB-B9E4-73A154A7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56A-4997-45F6-9802-BD4C956A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70E-4B01-434D-83C8-D563C528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D72-2F86-4E06-A5D5-4ED29B00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E85-EB08-4935-BF5A-D6F08241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89DF-B3A7-488B-9A16-5CA406B3CAB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5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6-10-05T16:33:48Z</dcterms:modified>
  <cp:revision>27</cp:revision>
  <dc:subject/>
  <dc:title>Diapositiva 1</dc:title>
</cp:coreProperties>
</file>